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D76-6EE3-4896-9B63-30B4A536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9C2-0A2B-4F38-8689-545D2990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2AA-0AD1-4D09-8EF7-D00F2661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6E0-1F75-4D0E-A393-8547B2F6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AAFD-C0E7-4490-BFE5-36FEC9AF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50EE-5754-4E9F-BA6B-6A112DF4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0BBB-B603-4CE7-A5AB-FDB15482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8641-86DC-4901-AA70-A9F74BCF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BCF9-0C3B-44AD-BF83-A58AE1DB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E389-1DF1-400D-9E06-5BD282D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2D07-6E15-4472-9F01-0F756AF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0AE-D3CE-4892-BA03-1F1C959E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9774-16EA-4E3E-B050-C05A026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2F8-BBE8-4B0D-9EA3-B81543E3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4285-729B-4212-9B4C-2B9AB1CB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23D9-05E8-461A-A408-1FB9850D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6A72-E5D2-4726-BFA1-A4D6F68E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6C2-CB6E-4B35-BEFD-ED1736EF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A4E-C6C0-4567-8469-38E3A327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43F-83CE-4D6B-ACC0-7DB54928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383-CDED-42E8-89F1-A916F491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392-39DE-4D90-859E-7416700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AB0-8CC9-4341-880A-73D488A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053-76F4-43E3-B956-7426B14E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780B-8429-4C0D-8CCA-563B3CB92C3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A5D6-5800-4F60-9247-2E59D66E76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ВОЛЮЦИЯ-ЛОЖ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User</cp:lastModifiedBy>
  <dcterms:modified xsi:type="dcterms:W3CDTF">2012-06-16T07:59:47Z</dcterms:modified>
  <cp:revision>11</cp:revision>
  <dc:subject/>
  <dc:title>Слайд 1</dc:title>
</cp:coreProperties>
</file>